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EA6D-84B4-4460-B24C-E082F574B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716B-804D-422D-9665-ADDBB4A8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35E9-39CE-4B85-89FE-B995E8FAA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F05F-5FFB-4534-8D5E-5D4D2D287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5EFA-638D-445D-B9F4-1E71A4C54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C911-FADF-41F1-9E0B-0CEDD055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EB1F-DDFE-4BD3-8913-C81433B5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F7D2E-961D-4FD6-9E9F-50C9BA04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CA75C-D162-4077-A34F-4FD414E5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2C5B-4D4E-49ED-925F-0CAA9C0A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28ADE-4710-4D97-8769-7E144CD0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93BC-F0C7-40CB-A54A-A6140CF6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8435-E082-4281-B30D-7BAC5F70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ADDE-CE99-4605-BA16-2CC58E8C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21AE-B475-4BF8-9A4B-71F6D589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2B56-1CC1-4887-B033-8D6CBF769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A07B-5976-4FDF-BBB5-9287BD584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222E-EEEA-444C-B586-62DEAF8B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C57E-C099-48C2-BCB1-A468CB8C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E109-4F03-4739-B97C-26317452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697A-0AD2-4925-A6AA-5FB69DE4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B0E7-569A-448F-B6C9-266C9475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FB73-557B-414C-9D4D-8F27685C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AB69-E0BC-452C-BEC6-ED322440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F2EA-B982-4C3B-B771-88EA3AC563D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07E9-1BFE-40E7-A182-9428CC251B8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hs20@sussex.ac.uk" TargetMode="External"/><Relationship Id="rId2" Type="http://schemas.openxmlformats.org/officeDocument/2006/relationships/hyperlink" Target="mailto:hilaryb@sussex.ac.uk" TargetMode="External"/><Relationship Id="rId3" Type="http://schemas.openxmlformats.org/officeDocument/2006/relationships/hyperlink" Target="http://www.ecvision.org/" TargetMode="Externa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cs.huji.ac.il/~nir/Nips01-Tutorial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gnitive Computer Vi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743200"/>
            <a:ext cx="7086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Kingsley S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khs20@sussex.ac.u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Hilary Buxt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ilaryb@sussex.ac.u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repared under ECVision Specific Action 8-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://www.ecvision.or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74720" y="81864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Full observability &amp; known structure </a:t>
            </a:r>
            <a:br>
              <a:rPr sz="3600"/>
            </a:b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Getting the notation right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model parameters (CPDs) are represented as </a:t>
            </a:r>
            <a:r>
              <a:rPr b="0" lang="en-GB" sz="2800" spc="-1" strike="noStrike">
                <a:solidFill>
                  <a:srgbClr val="003366"/>
                </a:solidFill>
                <a:latin typeface="Symbol"/>
                <a:ea typeface="Symbol"/>
              </a:rPr>
              <a:t>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(example late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raining data set 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e want to find parameters to maximise P(</a:t>
            </a:r>
            <a:r>
              <a:rPr b="0" lang="en-GB" sz="2800" spc="-1" strike="noStrike">
                <a:solidFill>
                  <a:srgbClr val="003366"/>
                </a:solidFill>
                <a:latin typeface="Symbol"/>
                <a:ea typeface="Symbol"/>
              </a:rPr>
              <a:t>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|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5715000"/>
            <a:ext cx="807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kelihood function L(</a:t>
            </a:r>
            <a:r>
              <a:rPr b="0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D) is P(D| </a:t>
            </a:r>
            <a:r>
              <a:rPr b="0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05200" y="4417920"/>
            <a:ext cx="3352680" cy="1160640"/>
            <a:chOff x="2905200" y="4417920"/>
            <a:chExt cx="3352680" cy="1160640"/>
          </a:xfrm>
        </p:grpSpPr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2905200" y="4568760"/>
                  <a:ext cx="3352680" cy="100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θ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D</m:t>
                          </m:r>
                          <m:r>
                            <m:t xml:space="preserve">|</m:t>
                          </m:r>
                          <m:r>
                            <m:t xml:space="preserve">θ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θ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D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8" name=""/>
            <p:cNvSpPr/>
            <p:nvPr/>
          </p:nvSpPr>
          <p:spPr>
            <a:xfrm>
              <a:off x="4374000" y="4417920"/>
              <a:ext cx="112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LIKELIHOOD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4720" y="81864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Full observability &amp; known structure </a:t>
            </a:r>
            <a:br>
              <a:rPr sz="3600"/>
            </a:b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Getting the notation right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295280" y="2895480"/>
            <a:ext cx="1981080" cy="1554120"/>
            <a:chOff x="1295280" y="2895480"/>
            <a:chExt cx="1981080" cy="1554120"/>
          </a:xfrm>
        </p:grpSpPr>
        <p:grpSp>
          <p:nvGrpSpPr>
            <p:cNvPr id="181" name=""/>
            <p:cNvGrpSpPr/>
            <p:nvPr/>
          </p:nvGrpSpPr>
          <p:grpSpPr>
            <a:xfrm>
              <a:off x="1295280" y="2895480"/>
              <a:ext cx="685800" cy="685800"/>
              <a:chOff x="1295280" y="2895480"/>
              <a:chExt cx="685800" cy="685800"/>
            </a:xfrm>
          </p:grpSpPr>
          <p:sp>
            <p:nvSpPr>
              <p:cNvPr id="182" name=""/>
              <p:cNvSpPr/>
              <p:nvPr/>
            </p:nvSpPr>
            <p:spPr>
              <a:xfrm>
                <a:off x="1295280" y="289548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435680" y="30333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1935000" y="3763800"/>
              <a:ext cx="685800" cy="685800"/>
              <a:chOff x="1935000" y="3763800"/>
              <a:chExt cx="685800" cy="685800"/>
            </a:xfrm>
          </p:grpSpPr>
          <p:sp>
            <p:nvSpPr>
              <p:cNvPr id="185" name=""/>
              <p:cNvSpPr/>
              <p:nvPr/>
            </p:nvSpPr>
            <p:spPr>
              <a:xfrm>
                <a:off x="1935000" y="376380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075400" y="39016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590560" y="2895480"/>
              <a:ext cx="685800" cy="685800"/>
              <a:chOff x="2590560" y="2895480"/>
              <a:chExt cx="685800" cy="685800"/>
            </a:xfrm>
          </p:grpSpPr>
          <p:sp>
            <p:nvSpPr>
              <p:cNvPr id="188" name=""/>
              <p:cNvSpPr/>
              <p:nvPr/>
            </p:nvSpPr>
            <p:spPr>
              <a:xfrm>
                <a:off x="2590560" y="289548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730600" y="30333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1828800" y="3504960"/>
              <a:ext cx="228600" cy="304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2514600" y="3581280"/>
              <a:ext cx="380880" cy="2286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4159080" y="2379600"/>
            <a:ext cx="4038480" cy="2735280"/>
            <a:chOff x="4159080" y="2379600"/>
            <a:chExt cx="4038480" cy="2735280"/>
          </a:xfrm>
        </p:grpSpPr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4159080" y="2989080"/>
                  <a:ext cx="4038480" cy="212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]</m:t>
                                </m:r>
                              </m:e>
                              <m:e>
                                <m:r>
                                  <m:t xml:space="preserve">B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]</m:t>
                                </m:r>
                              </m:e>
                              <m:e>
                                <m:r>
                                  <m:t xml:space="preserve">O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]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⋮</m:t>
                                </m:r>
                              </m:e>
                              <m:e>
                                <m:r>
                                  <m:t xml:space="preserve">⋮</m:t>
                                </m:r>
                              </m:e>
                              <m:e>
                                <m:r>
                                  <m:t xml:space="preserve">⋮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⋮</m:t>
                                </m:r>
                              </m:e>
                              <m:e/>
                              <m:e>
                                <m:r>
                                  <m:t xml:space="preserve">⋮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]</m:t>
                                </m:r>
                              </m:e>
                              <m:e>
                                <m:r>
                                  <m:t xml:space="preserve">B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]</m:t>
                                </m:r>
                              </m:e>
                              <m:e>
                                <m:r>
                                  <m:t xml:space="preserve">O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]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94" name=""/>
            <p:cNvSpPr/>
            <p:nvPr/>
          </p:nvSpPr>
          <p:spPr>
            <a:xfrm>
              <a:off x="5322600" y="2379600"/>
              <a:ext cx="2246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</a:rPr>
                <a:t>Training data Dz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494000" y="5348160"/>
                <a:ext cx="6858000" cy="11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: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  <m:r>
                          <m:t xml:space="preserve">,</m:t>
                        </m:r>
                        <m:r>
                          <m:t xml:space="preserve">O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  <m:r>
                          <m:t xml:space="preserve">: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4720" y="81864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actorising the likelihood express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990720" y="3048120"/>
            <a:ext cx="1981080" cy="1554120"/>
            <a:chOff x="990720" y="3048120"/>
            <a:chExt cx="1981080" cy="1554120"/>
          </a:xfrm>
        </p:grpSpPr>
        <p:grpSp>
          <p:nvGrpSpPr>
            <p:cNvPr id="198" name=""/>
            <p:cNvGrpSpPr/>
            <p:nvPr/>
          </p:nvGrpSpPr>
          <p:grpSpPr>
            <a:xfrm>
              <a:off x="990720" y="3048120"/>
              <a:ext cx="685800" cy="685800"/>
              <a:chOff x="990720" y="3048120"/>
              <a:chExt cx="685800" cy="685800"/>
            </a:xfrm>
          </p:grpSpPr>
          <p:sp>
            <p:nvSpPr>
              <p:cNvPr id="199" name=""/>
              <p:cNvSpPr/>
              <p:nvPr/>
            </p:nvSpPr>
            <p:spPr>
              <a:xfrm>
                <a:off x="990720" y="304812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31120" y="3186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1630440" y="3916440"/>
              <a:ext cx="685800" cy="685800"/>
              <a:chOff x="1630440" y="3916440"/>
              <a:chExt cx="685800" cy="685800"/>
            </a:xfrm>
          </p:grpSpPr>
          <p:sp>
            <p:nvSpPr>
              <p:cNvPr id="202" name=""/>
              <p:cNvSpPr/>
              <p:nvPr/>
            </p:nvSpPr>
            <p:spPr>
              <a:xfrm>
                <a:off x="1630440" y="391644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770840" y="40543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2286000" y="3048120"/>
              <a:ext cx="685800" cy="685800"/>
              <a:chOff x="2286000" y="3048120"/>
              <a:chExt cx="685800" cy="685800"/>
            </a:xfrm>
          </p:grpSpPr>
          <p:sp>
            <p:nvSpPr>
              <p:cNvPr id="205" name=""/>
              <p:cNvSpPr/>
              <p:nvPr/>
            </p:nvSpPr>
            <p:spPr>
              <a:xfrm>
                <a:off x="2286000" y="304812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426040" y="31860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1524240" y="3657600"/>
              <a:ext cx="228600" cy="304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2210040" y="3733920"/>
              <a:ext cx="380880" cy="2286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3124080" y="2590920"/>
                <a:ext cx="581040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: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  <m:r>
                          <m:t xml:space="preserve">,</m:t>
                        </m:r>
                        <m:r>
                          <m:t xml:space="preserve">O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  <m:r>
                          <m:t xml:space="preserve">: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4505400" y="3581280"/>
                <a:ext cx="388620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P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A</m:t>
                                  </m:r>
                                  <m:r>
                                    <m:t xml:space="preserve">[</m:t>
                                  </m:r>
                                  <m:r>
                                    <m:t xml:space="preserve">m</m:t>
                                  </m:r>
                                  <m:r>
                                    <m:t xml:space="preserve">]</m:t>
                                  </m:r>
                                  <m:r>
                                    <m:t xml:space="preserve">: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P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B</m:t>
                                  </m:r>
                                  <m:r>
                                    <m:t xml:space="preserve">[</m:t>
                                  </m:r>
                                  <m:r>
                                    <m:t xml:space="preserve">m</m:t>
                                  </m:r>
                                  <m:r>
                                    <m:t xml:space="preserve">]</m:t>
                                  </m:r>
                                  <m:r>
                                    <m:t xml:space="preserve">: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P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O</m:t>
                                  </m:r>
                                  <m:r>
                                    <m:t xml:space="preserve">[</m:t>
                                  </m:r>
                                  <m:r>
                                    <m:t xml:space="preserve">m</m:t>
                                  </m:r>
                                  <m:r>
                                    <m:t xml:space="preserve">]</m:t>
                                  </m:r>
                                  <m:r>
                                    <m:t xml:space="preserve">|</m:t>
                                  </m:r>
                                  <m:r>
                                    <m:t xml:space="preserve">A</m:t>
                                  </m:r>
                                  <m:r>
                                    <m:t xml:space="preserve">[</m:t>
                                  </m:r>
                                  <m:r>
                                    <m:t xml:space="preserve">m</m:t>
                                  </m:r>
                                  <m:r>
                                    <m:t xml:space="preserve">]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B</m:t>
                                  </m:r>
                                  <m:r>
                                    <m:t xml:space="preserve">[</m:t>
                                  </m:r>
                                  <m:r>
                                    <m:t xml:space="preserve">m</m:t>
                                  </m:r>
                                  <m:r>
                                    <m:t xml:space="preserve">]</m:t>
                                  </m:r>
                                  <m:r>
                                    <m:t xml:space="preserve">: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295280" y="5105520"/>
                <a:ext cx="746784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  <m:r>
                          <m:t xml:space="preserve">: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[</m:t>
                            </m:r>
                            <m:r>
                              <m:t xml:space="preserve">m</m:t>
                            </m:r>
                            <m:r>
                              <m:t xml:space="preserve">]</m:t>
                            </m:r>
                            <m:r>
                              <m:t xml:space="preserve">: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  <m:nary>
                              <m:naryPr>
                                <m:chr m:val="∏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O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]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]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]</m:t>
                                </m:r>
                                <m:r>
                                  <m:t xml:space="preserve">: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composition in gener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828800" y="2895480"/>
                <a:ext cx="5486400" cy="240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: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r>
                              <m:t xml:space="preserve">m</m:t>
                            </m:r>
                            <m:r>
                              <m:t xml:space="preserve">]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r>
                              <m:t xml:space="preserve">m</m:t>
                            </m:r>
                            <m:r>
                              <m:t xml:space="preserve">]</m:t>
                            </m:r>
                            <m:r>
                              <m:t xml:space="preserve">: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∏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[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]</m:t>
                                </m:r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arents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[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]</m:t>
                                </m:r>
                                <m:r>
                                  <m:t xml:space="preserve">: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1248480" y="5513400"/>
            <a:ext cx="760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ll the parameters for each node can be estimated separatel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</a:t>
            </a:r>
            <a:br>
              <a:rPr sz="3600"/>
            </a:b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Estimating parameter for root node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86800" y="2595600"/>
            <a:ext cx="49536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Let’s say our training data D contains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these values for A {T,F,T,T,F,T,T,T}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We represent our single parameter </a:t>
            </a:r>
            <a:r>
              <a:rPr b="0" lang="en-US" sz="2200" spc="-1" strike="noStrike">
                <a:solidFill>
                  <a:srgbClr val="003366"/>
                </a:solidFill>
                <a:latin typeface="Symbol"/>
                <a:ea typeface="Symbol"/>
              </a:rPr>
              <a:t></a:t>
            </a: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 as the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probability that a=T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The likelihood for the sequence is: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4106880" y="5427720"/>
                <a:ext cx="487692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: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8" name=""/>
          <p:cNvGrpSpPr/>
          <p:nvPr/>
        </p:nvGrpSpPr>
        <p:grpSpPr>
          <a:xfrm>
            <a:off x="745200" y="4114800"/>
            <a:ext cx="3293280" cy="2775240"/>
            <a:chOff x="745200" y="4114800"/>
            <a:chExt cx="3293280" cy="2775240"/>
          </a:xfrm>
        </p:grpSpPr>
        <p:pic>
          <p:nvPicPr>
            <p:cNvPr id="219" name="diag1" descr=""/>
            <p:cNvPicPr/>
            <p:nvPr/>
          </p:nvPicPr>
          <p:blipFill>
            <a:blip r:embed="rId1"/>
            <a:stretch/>
          </p:blipFill>
          <p:spPr>
            <a:xfrm>
              <a:off x="990720" y="4114800"/>
              <a:ext cx="3047760" cy="23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2482560" y="649116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16182600">
              <a:off x="499320" y="4960080"/>
              <a:ext cx="89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:D)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00400" y="4267080"/>
              <a:ext cx="0" cy="22100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1579680" y="2489040"/>
            <a:ext cx="1685880" cy="1527480"/>
            <a:chOff x="1579680" y="2489040"/>
            <a:chExt cx="1685880" cy="1527480"/>
          </a:xfrm>
        </p:grpSpPr>
        <p:sp>
          <p:nvSpPr>
            <p:cNvPr id="224" name=""/>
            <p:cNvSpPr/>
            <p:nvPr/>
          </p:nvSpPr>
          <p:spPr>
            <a:xfrm>
              <a:off x="1930680" y="3089520"/>
              <a:ext cx="201960" cy="2664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2537280" y="3155760"/>
              <a:ext cx="337320" cy="2001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579680" y="2489040"/>
              <a:ext cx="741600" cy="6004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83440" y="2562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523600" y="2517840"/>
              <a:ext cx="741960" cy="6004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25920" y="25916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53080" y="3416040"/>
              <a:ext cx="741600" cy="6004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243160" y="3502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 what about the prior on </a:t>
            </a:r>
            <a:r>
              <a:rPr b="1" lang="en-US" sz="3600" spc="-1" strike="noStrike">
                <a:solidFill>
                  <a:srgbClr val="006666"/>
                </a:solidFill>
                <a:latin typeface="Symbol"/>
                <a:ea typeface="Symbol"/>
              </a:rPr>
              <a:t>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679400" y="2554200"/>
                <a:ext cx="548640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  <m:r>
                          <m:t xml:space="preserve">|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[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1353240" y="3755880"/>
            <a:ext cx="705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e have an expression for 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P(a[1],…,a[M]),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all we ne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o do now is to say something about 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295280" y="4800600"/>
                <a:ext cx="68216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∝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1449720" y="5403960"/>
            <a:ext cx="673524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If all values of </a:t>
            </a:r>
            <a:r>
              <a:rPr b="0" lang="en-US" sz="2200" spc="-1" strike="noStrike">
                <a:solidFill>
                  <a:srgbClr val="003366"/>
                </a:solidFill>
                <a:latin typeface="Symbol"/>
                <a:ea typeface="Symbol"/>
              </a:rPr>
              <a:t></a:t>
            </a: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 were equally likely at the outset, then we 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have a </a:t>
            </a:r>
            <a:r>
              <a:rPr b="1" lang="en-US" sz="2200" spc="-1" strike="noStrike">
                <a:solidFill>
                  <a:srgbClr val="003366"/>
                </a:solidFill>
                <a:latin typeface="Times New Roman"/>
              </a:rPr>
              <a:t>MAXIMUM LIKELIHOOD</a:t>
            </a: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 ESTIMATE (MLE)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for P(</a:t>
            </a:r>
            <a:r>
              <a:rPr b="0" lang="en-US" sz="2200" spc="-1" strike="noStrike">
                <a:solidFill>
                  <a:srgbClr val="003366"/>
                </a:solidFill>
                <a:latin typeface="Symbol"/>
                <a:ea typeface="Symbol"/>
              </a:rPr>
              <a:t></a:t>
            </a: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|a[1],…,a[M]) which for our example 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is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= 0.75 I.e. p(a=T is 0.75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 what about the prior on </a:t>
            </a:r>
            <a:r>
              <a:rPr b="1" lang="en-US" sz="3600" spc="-1" strike="noStrike">
                <a:solidFill>
                  <a:srgbClr val="006666"/>
                </a:solidFill>
                <a:latin typeface="Symbol"/>
                <a:ea typeface="Symbol"/>
              </a:rPr>
              <a:t>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295280" y="2514600"/>
                <a:ext cx="68216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∝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952560" y="3268800"/>
            <a:ext cx="76147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If P(</a:t>
            </a:r>
            <a:r>
              <a:rPr b="0" lang="en-US" sz="2200" spc="-1" strike="noStrike">
                <a:solidFill>
                  <a:srgbClr val="003366"/>
                </a:solidFill>
                <a:latin typeface="Symbol"/>
                <a:ea typeface="Symbol"/>
              </a:rPr>
              <a:t></a:t>
            </a: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) is not uniform, we need to take that into account when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computing our estimate for a model parameter. In that case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P(</a:t>
            </a:r>
            <a:r>
              <a:rPr b="0" lang="en-US" sz="2200" spc="-1" strike="noStrike">
                <a:solidFill>
                  <a:srgbClr val="003366"/>
                </a:solidFill>
                <a:latin typeface="Symbol"/>
                <a:ea typeface="Symbol"/>
              </a:rPr>
              <a:t></a:t>
            </a: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|x[1],…,x[M]) would be a 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Times New Roman"/>
              </a:rPr>
              <a:t>MAXIMUM APOSTERIORI PROBABILITY (MAP)</a:t>
            </a: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 estimate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There are many different forms of prior, one of the more common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ones in this application is the </a:t>
            </a:r>
            <a:r>
              <a:rPr b="1" lang="en-US" sz="2200" spc="-1" strike="noStrike">
                <a:solidFill>
                  <a:srgbClr val="003366"/>
                </a:solidFill>
                <a:latin typeface="Times New Roman"/>
              </a:rPr>
              <a:t>DIRICHLET</a:t>
            </a: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 prior …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Dirichlet prio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676520" y="2590920"/>
            <a:ext cx="5797080" cy="3890160"/>
            <a:chOff x="1676520" y="2590920"/>
            <a:chExt cx="5797080" cy="3890160"/>
          </a:xfrm>
        </p:grpSpPr>
        <p:pic>
          <p:nvPicPr>
            <p:cNvPr id="242" name="diag2" descr=""/>
            <p:cNvPicPr/>
            <p:nvPr/>
          </p:nvPicPr>
          <p:blipFill>
            <a:blip r:embed="rId1"/>
            <a:stretch/>
          </p:blipFill>
          <p:spPr>
            <a:xfrm>
              <a:off x="2070000" y="2590920"/>
              <a:ext cx="5403600" cy="34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4610160" y="602136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6200000">
              <a:off x="1487160" y="38941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746880" y="3238560"/>
              <a:ext cx="215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Dirichlet(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i="1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i="1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mantic prio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2362320"/>
            <a:ext cx="8001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the training data D is sorted into known classes, the priors can be estimate beforehand. These are called “semantic priors”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60640" indent="-2606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s involves an element of hand coding and loses the advantage gaining some insight into the problem domai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60640" indent="-2606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es give the advantage of mapping into expert knowledge of the classes in the problem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4720" y="81864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timation relies on sufficient statistic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 ML estimate for discrete valued nodes, we use counts #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35200" y="5078520"/>
            <a:ext cx="8076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 MAP estimate, we have to account for the prio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752480" y="3886200"/>
                <a:ext cx="578016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arent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arent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rPr>
                            <m:lit/>
                            <m:nor/>
                          </m:rPr>
                          <m:t xml:space="preserve">examples</m:t>
                        </m:r>
                        <m:r>
                          <m:rPr>
                            <m:lit/>
                            <m:nor/>
                          </m:rPr>
                          <m:t xml:space="preserve">mapping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arent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cture 13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27432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ing Bayesian Belief Networ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xonomy of metho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ing BBNs for the fully observable data and known structure ca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58600" y="8028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xt time 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90640" y="2612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Overview of methods for learning BBN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Full data and unknown struct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artial data and known struct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artial data and unknown struct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xcellent tutorial at by Koller and Friedman: </a:t>
            </a:r>
            <a:r>
              <a:rPr b="0" lang="en-GB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cs.huji.ac.il/~nir/Nips01-Tutorial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ome of today’s slides were adapted from that tutori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o why are BBNs relevant to Cognitive CV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2514600"/>
            <a:ext cx="802944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vides a well-founded methodology for reasoning with uncertaint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se methods are the basis for our model of perception guided by expect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can develop well-founded methods of learning rather than just being stuck with hand-coded model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minder: What is a BB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839880" y="2452680"/>
          <a:ext cx="1110960" cy="671400"/>
        </p:xfrm>
        <a:graphic>
          <a:graphicData uri="http://schemas.openxmlformats.org/drawingml/2006/table">
            <a:tbl>
              <a:tblPr/>
              <a:tblGrid>
                <a:gridCol w="1110960"/>
              </a:tblGrid>
              <a:tr h="36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(a=detect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900600" y="2438280"/>
          <a:ext cx="1110960" cy="671760"/>
        </p:xfrm>
        <a:graphic>
          <a:graphicData uri="http://schemas.openxmlformats.org/drawingml/2006/table">
            <a:tbl>
              <a:tblPr/>
              <a:tblGrid>
                <a:gridCol w="1110960"/>
              </a:tblGrid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(b=detect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145040" y="3260880"/>
          <a:ext cx="1904760" cy="1768320"/>
        </p:xfrm>
        <a:graphic>
          <a:graphicData uri="http://schemas.openxmlformats.org/drawingml/2006/table">
            <a:tbl>
              <a:tblPr/>
              <a:tblGrid>
                <a:gridCol w="533160"/>
                <a:gridCol w="381240"/>
                <a:gridCol w="99036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=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=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(o=T|A,B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9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3808440" y="5500800"/>
          <a:ext cx="1447920" cy="1087200"/>
        </p:xfrm>
        <a:graphic>
          <a:graphicData uri="http://schemas.openxmlformats.org/drawingml/2006/table">
            <a:tbl>
              <a:tblPr/>
              <a:tblGrid>
                <a:gridCol w="534960"/>
                <a:gridCol w="91296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=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(n=T|O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960480" y="5546880"/>
          <a:ext cx="1447920" cy="1066680"/>
        </p:xfrm>
        <a:graphic>
          <a:graphicData uri="http://schemas.openxmlformats.org/drawingml/2006/table">
            <a:tbl>
              <a:tblPr/>
              <a:tblGrid>
                <a:gridCol w="533520"/>
                <a:gridCol w="91440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=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(c=T|O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6033960" y="2408400"/>
            <a:ext cx="2957760" cy="42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66"/>
                </a:solidFill>
                <a:latin typeface="Arial"/>
              </a:rPr>
              <a:t>Compact representation of the joint probability </a:t>
            </a:r>
            <a:endParaRPr b="0" lang="en-US" sz="19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66"/>
                </a:solidFill>
                <a:latin typeface="Arial"/>
              </a:rPr>
              <a:t>Each variable is represented as a node. </a:t>
            </a:r>
            <a:endParaRPr b="0" lang="en-US" sz="19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66"/>
                </a:solidFill>
                <a:latin typeface="Arial"/>
              </a:rPr>
              <a:t>Conditional independence assumptions are encoded using a set of arcs</a:t>
            </a:r>
            <a:endParaRPr b="0" lang="en-US" sz="19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66"/>
                </a:solidFill>
                <a:latin typeface="Arial"/>
              </a:rPr>
              <a:t>Different types of graph exist. The one shown is a Directed Acyclic Graph (DAG)</a:t>
            </a:r>
            <a:endParaRPr b="0" lang="en-US" sz="19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022480" y="3197160"/>
            <a:ext cx="1620360" cy="2144520"/>
            <a:chOff x="2022480" y="3197160"/>
            <a:chExt cx="1620360" cy="2144520"/>
          </a:xfrm>
        </p:grpSpPr>
        <p:sp>
          <p:nvSpPr>
            <p:cNvPr id="107" name=""/>
            <p:cNvSpPr/>
            <p:nvPr/>
          </p:nvSpPr>
          <p:spPr>
            <a:xfrm>
              <a:off x="2377800" y="3727800"/>
              <a:ext cx="213120" cy="264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3003120" y="3766320"/>
              <a:ext cx="355680" cy="198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2377800" y="4523760"/>
              <a:ext cx="355680" cy="264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88360" y="4523760"/>
              <a:ext cx="284400" cy="264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22480" y="3197160"/>
              <a:ext cx="639720" cy="53064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01680" y="3219120"/>
              <a:ext cx="639720" cy="5302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500560" y="3991680"/>
              <a:ext cx="639720" cy="5302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03120" y="4811400"/>
              <a:ext cx="639720" cy="5302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66760" y="4789080"/>
              <a:ext cx="639720" cy="53064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75120" y="3276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05360" y="3271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619720" y="40467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03920" y="48610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73760" y="4867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791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Why is learning important in the context of BBN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63640" y="247176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nowledge acquisition can be an expensive proc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erts may not be readily available (scarce knowledge) or simply not exi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ut you might have a lot of data from (say) case stud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ing allows us to construct BBN models from the data and in the process gain insight into the nature of the problem doma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791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process of lear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53920" y="4479840"/>
            <a:ext cx="2590920" cy="1447920"/>
          </a:xfrm>
          <a:prstGeom prst="ellipse">
            <a:avLst/>
          </a:prstGeom>
          <a:solidFill>
            <a:srgbClr val="99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odel structur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if known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3920" y="2651040"/>
            <a:ext cx="2590920" cy="1447920"/>
          </a:xfrm>
          <a:prstGeom prst="ellipse">
            <a:avLst/>
          </a:prstGeom>
          <a:solidFill>
            <a:srgbClr val="99cc99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Data (may be full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or partial)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49760" y="3718080"/>
            <a:ext cx="1676160" cy="1295280"/>
          </a:xfrm>
          <a:prstGeom prst="ellipse">
            <a:avLst/>
          </a:prstGeom>
          <a:solidFill>
            <a:srgbClr val="99cc99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earn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00800" y="409896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68520" y="3641760"/>
            <a:ext cx="533520" cy="304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444840" y="4784400"/>
            <a:ext cx="457200" cy="304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0" name="BBNpic" descr=""/>
          <p:cNvPicPr/>
          <p:nvPr/>
        </p:nvPicPr>
        <p:blipFill>
          <a:blip r:embed="rId1"/>
          <a:stretch/>
        </p:blipFill>
        <p:spPr>
          <a:xfrm>
            <a:off x="6248520" y="3200400"/>
            <a:ext cx="2590560" cy="2125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172200" y="3048120"/>
            <a:ext cx="2773440" cy="2408040"/>
          </a:xfrm>
          <a:prstGeom prst="rect">
            <a:avLst/>
          </a:prstGeom>
          <a:solidFill>
            <a:srgbClr val="ffffef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775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do we mean by “partial” data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3680" y="2717640"/>
            <a:ext cx="7939080" cy="7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aining data where there are missing values e.g.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213520" y="3336840"/>
          <a:ext cx="2209680" cy="3168720"/>
        </p:xfrm>
        <a:graphic>
          <a:graphicData uri="http://schemas.openxmlformats.org/drawingml/2006/table">
            <a:tbl>
              <a:tblPr/>
              <a:tblGrid>
                <a:gridCol w="736560"/>
                <a:gridCol w="736560"/>
                <a:gridCol w="736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=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=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=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1584360" y="5253120"/>
            <a:ext cx="278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iscrete valued BB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ith 3 nod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057400" y="3505320"/>
            <a:ext cx="1905120" cy="1744560"/>
            <a:chOff x="2057400" y="3505320"/>
            <a:chExt cx="1905120" cy="1744560"/>
          </a:xfrm>
        </p:grpSpPr>
        <p:sp>
          <p:nvSpPr>
            <p:cNvPr id="137" name=""/>
            <p:cNvSpPr/>
            <p:nvPr/>
          </p:nvSpPr>
          <p:spPr>
            <a:xfrm>
              <a:off x="2454120" y="4191120"/>
              <a:ext cx="228600" cy="304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3139560" y="4267080"/>
              <a:ext cx="381240" cy="2286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057400" y="3505320"/>
              <a:ext cx="838080" cy="68580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86720" y="3589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24080" y="3538440"/>
              <a:ext cx="838440" cy="68580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3040" y="3622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92360" y="4564080"/>
              <a:ext cx="838080" cy="68580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07280" y="4662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775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do we mean by “known” and “unknown” structur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5181480" y="3276720"/>
            <a:ext cx="685800" cy="685800"/>
            <a:chOff x="5181480" y="3276720"/>
            <a:chExt cx="685800" cy="685800"/>
          </a:xfrm>
        </p:grpSpPr>
        <p:sp>
          <p:nvSpPr>
            <p:cNvPr id="147" name=""/>
            <p:cNvSpPr/>
            <p:nvPr/>
          </p:nvSpPr>
          <p:spPr>
            <a:xfrm>
              <a:off x="5181480" y="3276720"/>
              <a:ext cx="685800" cy="68580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21880" y="34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5821200" y="4145040"/>
            <a:ext cx="685800" cy="685800"/>
            <a:chOff x="5821200" y="4145040"/>
            <a:chExt cx="685800" cy="685800"/>
          </a:xfrm>
        </p:grpSpPr>
        <p:sp>
          <p:nvSpPr>
            <p:cNvPr id="150" name=""/>
            <p:cNvSpPr/>
            <p:nvPr/>
          </p:nvSpPr>
          <p:spPr>
            <a:xfrm>
              <a:off x="5821200" y="4145040"/>
              <a:ext cx="685800" cy="68580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61600" y="4282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477120" y="3276720"/>
            <a:ext cx="685800" cy="685800"/>
            <a:chOff x="6477120" y="3276720"/>
            <a:chExt cx="685800" cy="685800"/>
          </a:xfrm>
        </p:grpSpPr>
        <p:sp>
          <p:nvSpPr>
            <p:cNvPr id="153" name=""/>
            <p:cNvSpPr/>
            <p:nvPr/>
          </p:nvSpPr>
          <p:spPr>
            <a:xfrm>
              <a:off x="6477120" y="3276720"/>
              <a:ext cx="685800" cy="68580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17160" y="3414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1752840" y="510552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Known structur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905120" y="3276720"/>
            <a:ext cx="1981080" cy="1554120"/>
            <a:chOff x="1905120" y="3276720"/>
            <a:chExt cx="1981080" cy="1554120"/>
          </a:xfrm>
        </p:grpSpPr>
        <p:grpSp>
          <p:nvGrpSpPr>
            <p:cNvPr id="157" name=""/>
            <p:cNvGrpSpPr/>
            <p:nvPr/>
          </p:nvGrpSpPr>
          <p:grpSpPr>
            <a:xfrm>
              <a:off x="1905120" y="3276720"/>
              <a:ext cx="685800" cy="685800"/>
              <a:chOff x="1905120" y="3276720"/>
              <a:chExt cx="685800" cy="685800"/>
            </a:xfrm>
          </p:grpSpPr>
          <p:sp>
            <p:nvSpPr>
              <p:cNvPr id="158" name=""/>
              <p:cNvSpPr/>
              <p:nvPr/>
            </p:nvSpPr>
            <p:spPr>
              <a:xfrm>
                <a:off x="1905120" y="327672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045520" y="34146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2544840" y="4145040"/>
              <a:ext cx="685800" cy="685800"/>
              <a:chOff x="2544840" y="4145040"/>
              <a:chExt cx="685800" cy="685800"/>
            </a:xfrm>
          </p:grpSpPr>
          <p:sp>
            <p:nvSpPr>
              <p:cNvPr id="161" name=""/>
              <p:cNvSpPr/>
              <p:nvPr/>
            </p:nvSpPr>
            <p:spPr>
              <a:xfrm>
                <a:off x="2544840" y="414504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685240" y="42829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3200400" y="3276720"/>
              <a:ext cx="685800" cy="685800"/>
              <a:chOff x="3200400" y="3276720"/>
              <a:chExt cx="685800" cy="685800"/>
            </a:xfrm>
          </p:grpSpPr>
          <p:sp>
            <p:nvSpPr>
              <p:cNvPr id="164" name=""/>
              <p:cNvSpPr/>
              <p:nvPr/>
            </p:nvSpPr>
            <p:spPr>
              <a:xfrm>
                <a:off x="3200400" y="327672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340440" y="34146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2438640" y="3886200"/>
              <a:ext cx="228600" cy="304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3124440" y="3962520"/>
              <a:ext cx="380880" cy="2286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4910760" y="5108400"/>
            <a:ext cx="252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Unknown structur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791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xonomy of learning metho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600200" y="2514600"/>
          <a:ext cx="5943600" cy="2066760"/>
        </p:xfrm>
        <a:graphic>
          <a:graphicData uri="http://schemas.openxmlformats.org/drawingml/2006/table">
            <a:tbl>
              <a:tblPr/>
              <a:tblGrid>
                <a:gridCol w="628560"/>
                <a:gridCol w="971640"/>
                <a:gridCol w="2571840"/>
                <a:gridCol w="1771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odel structur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now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nknow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86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ull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aximum likelihood estimation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earch through model space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artial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xpectation Maximisation (EM) or gradient descent(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M + search through model space (structural EM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 rot="16200000">
            <a:off x="1127880" y="369756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Observability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26920" y="4729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66"/>
                </a:solidFill>
                <a:latin typeface="Arial"/>
              </a:rPr>
              <a:t>In this lecture we will look at the full observability and known model structure case in detail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66"/>
                </a:solidFill>
                <a:latin typeface="Arial"/>
              </a:rPr>
              <a:t>In the next lecture we will take an overview of the other three case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10:31:27Z</dcterms:created>
  <dc:creator>Sage</dc:creator>
  <dc:description/>
  <dc:language>en-US</dc:language>
  <cp:lastModifiedBy>Sage</cp:lastModifiedBy>
  <dcterms:modified xsi:type="dcterms:W3CDTF">2005-03-24T15:40:42Z</dcterms:modified>
  <cp:revision>81</cp:revision>
  <dc:subject/>
  <dc:title>Markov Models</dc:title>
</cp:coreProperties>
</file>